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54D2-5ABF-40A6-97C7-C14771C8C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A956-C836-47EC-830D-AC90E9F4B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3464-0CB3-4E53-AD90-D5F7A38EF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D3F8-56AD-4084-BB91-CFD07B34B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F8DA-9330-4EDC-B669-C121D775E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4075-727B-483B-B8FC-4A4DAF96B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3FB1-E505-4B42-9AEF-6960F17EC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03D5-8AA2-4071-A603-C3BE4DEF6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D60B-B79A-4764-8DD5-93DE9389C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B034-48B9-404E-90AE-0E43B656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7649-F613-4481-9D44-1D5A220DF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61D0-A97D-4CD4-B6DE-8AF894D93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1D823-50D5-4E3E-B96A-AFDF948FE3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Croce-Mozart-Detail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freelance-zone.com/blog/wp-content/uploads/2009/08/music_notes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8OZCyp-LcGw" TargetMode="External"/><Relationship Id="rId2" Type="http://schemas.openxmlformats.org/officeDocument/2006/relationships/hyperlink" Target="http://www.youtube.com/watch?v=3o5baA0Z9g4" TargetMode="External"/><Relationship Id="rId3" Type="http://schemas.openxmlformats.org/officeDocument/2006/relationships/hyperlink" Target="http://www.youtube.com/watch?v=ROllcRNrGI4" TargetMode="External"/><Relationship Id="rId4" Type="http://schemas.openxmlformats.org/officeDocument/2006/relationships/hyperlink" Target="http://www.youtube.com/watch?v=ROllcRNrGI4" TargetMode="External"/><Relationship Id="rId5" Type="http://schemas.openxmlformats.org/officeDocument/2006/relationships/hyperlink" Target="http://www.youtube.com/watch?v=ROllcRNrGI4" TargetMode="External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buzzle.com/editorials/1-29-2005-64987.asp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Wolfgang Amadeus Moz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5627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y Matt Ev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00400" y="1600200"/>
            <a:ext cx="27986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omantic Mus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76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usic is structured to make pieces more passionate and expres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usic very emo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usic very balanced and had lots of c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67080" y="1600200"/>
            <a:ext cx="408636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usical Con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38320" y="1599840"/>
            <a:ext cx="3048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Known as a classical music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opularized piano conce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uld watch and “absorb” the talents of other music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35892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usical Influ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76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fluenced in early childhood by Johann Nepomuk Humm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in influence through life was Ludwig van Beeth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eethoven also influenced by Mozart’s mu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419720" y="1600200"/>
            <a:ext cx="380988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ther Fun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38320" y="1600200"/>
            <a:ext cx="3048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ast work was “Requiem Dies Ira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owever Mozart died before finishing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rote mostly religious mu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madeus” in 1984 showed cycle of Mozart’s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34891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usic and Movie Cl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52120" y="2057400"/>
            <a:ext cx="54104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8OZCyp-LcG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youtube.com/watch?v=3o5baA0Z9g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youtube.com/watch?v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=ROllcRNrGI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Works C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buzzle.com/editorials/1-29-2005-64987.a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ttp://en.wikipedia.org/wiki/Wolfgang_Amadeus_Moz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ttp://en.wikipedia.org/wiki/W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ttp://en.wikipedia.org/wiki/List_of_compositions_by_Ludwig_van_Beeth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ttp://www.youtube.com/watch?v=8OZCyp-LcG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ttp://www.youtube.com/watch?v=3o5baA0Z9g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ttp://www.youtube.com/watch?v=ROllcRNrGI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ttp://www.azopera.com/learn.php?subcat=composerbios&amp;composer=Moz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arly Life Basic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00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orn January 27, 17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orn in Salzburg, Aust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arents were Leopold Mozart and Anna Maria Pert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886200" y="1523880"/>
            <a:ext cx="452448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arly Childh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486400" y="1600200"/>
            <a:ext cx="3200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tarted composing music at five years 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layed piano and violin at age s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layed with sister, Maria Anna in Paris and Lond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layed in front of Austrian Emp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809880" cy="37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arly Childhood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048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rote his first composition at age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tarted writing symphonies at age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ecame extremely popular and asked to perform in Vien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876920" y="1600200"/>
            <a:ext cx="31510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oyage to Ita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714640" y="1600200"/>
            <a:ext cx="2971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raveled to Italy with father to perform from 1770 to 177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rote “Mitridate” and “Lucio Sill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oured Italy a total of three times as a chi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47720" y="1447920"/>
            <a:ext cx="430992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arly Adulth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971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ncert master for Prince Archbishop’s court from 1774 to 177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ceived opportunity to perform opera in Munich in 17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398840" y="1447920"/>
            <a:ext cx="3602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dulth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715000" y="1599840"/>
            <a:ext cx="2819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rried Constanze Weber in 17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sed money imprope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lways had to borrow from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337212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nd of Mozart’s 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895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ied of Rheumatic Fever or poisoning on December 5, 17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uried in unmarked grave in Saint Stephen’s Cathed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mains very popular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0" y="1371600"/>
            <a:ext cx="35053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nd of Mozart’s Life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790960" y="1599840"/>
            <a:ext cx="2895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sked to write “Requiem” before de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ame began to disappear after “Marriage of Figar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ost famous works: “Marriage of Figaro,” “Don Giovanni,” and “Piano Concerto No. 24 in C Mi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24040" y="1447920"/>
            <a:ext cx="40496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3T19:44:03Z</dcterms:created>
  <dc:creator> </dc:creator>
  <dc:description/>
  <dc:language>en-US</dc:language>
  <cp:lastModifiedBy> </cp:lastModifiedBy>
  <dcterms:modified xsi:type="dcterms:W3CDTF">2010-01-03T22:03:43Z</dcterms:modified>
  <cp:revision>2</cp:revision>
  <dc:subject/>
  <dc:title>Wolfgang Amadeus Mozart</dc:title>
</cp:coreProperties>
</file>